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2.png" ContentType="image/png"/>
  <Override PartName="/ppt/media/image7.png" ContentType="image/png"/>
  <Override PartName="/ppt/media/CHIMES.WAV" ContentType="audio/x-wav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4CD7-8098-4A73-AD25-F1F9B93C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F23E-E674-4BA4-B540-8F8F8322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5320-77A5-461E-BC48-279CE256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D6EC-85FE-428A-AE3A-447C0B6D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017B-D146-4CC3-87E8-D692AC2A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125B-1D66-426C-AA5F-7D1E733D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DC68-A90C-4A2A-B903-3BBAAF96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C9F3-C6A7-4047-B7CF-F782E152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323F-A7D6-485C-B8B2-D8AC1596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A896-F5BA-4358-B6FD-1BD7AC19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9110-677D-4C0C-A3BE-438434DA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E4DC-AC35-4291-83C9-D7DEE1A5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EBF0-C675-4169-860D-0914D3C15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5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3.xml"/><Relationship Id="rId18" Type="http://schemas.openxmlformats.org/officeDocument/2006/relationships/slide" Target="slide11.xml"/><Relationship Id="rId19" Type="http://schemas.openxmlformats.org/officeDocument/2006/relationships/slide" Target="slide11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slide" Target="slide13.xml"/><Relationship Id="rId23" Type="http://schemas.openxmlformats.org/officeDocument/2006/relationships/slide" Target="slide13.xml"/><Relationship Id="rId24" Type="http://schemas.openxmlformats.org/officeDocument/2006/relationships/slide" Target="slide9.xml"/><Relationship Id="rId25" Type="http://schemas.openxmlformats.org/officeDocument/2006/relationships/slide" Target="slide9.xml"/><Relationship Id="rId26" Type="http://schemas.openxmlformats.org/officeDocument/2006/relationships/slide" Target="slide17.xml"/><Relationship Id="rId27" Type="http://schemas.openxmlformats.org/officeDocument/2006/relationships/slide" Target="slide17.xml"/><Relationship Id="rId28" Type="http://schemas.openxmlformats.org/officeDocument/2006/relationships/slide" Target="slide8.xml"/><Relationship Id="rId29" Type="http://schemas.openxmlformats.org/officeDocument/2006/relationships/slide" Target="slide7.xml"/><Relationship Id="rId30" Type="http://schemas.openxmlformats.org/officeDocument/2006/relationships/slide" Target="slide6.xml"/><Relationship Id="rId31" Type="http://schemas.openxmlformats.org/officeDocument/2006/relationships/slide" Target="slide6.xml"/><Relationship Id="rId32" Type="http://schemas.openxmlformats.org/officeDocument/2006/relationships/slide" Target="slide19.xml"/><Relationship Id="rId33" Type="http://schemas.openxmlformats.org/officeDocument/2006/relationships/slide" Target="slide19.xml"/><Relationship Id="rId34" Type="http://schemas.openxmlformats.org/officeDocument/2006/relationships/slide" Target="slide20.xml"/><Relationship Id="rId35" Type="http://schemas.openxmlformats.org/officeDocument/2006/relationships/slide" Target="slide20.xml"/><Relationship Id="rId36" Type="http://schemas.openxmlformats.org/officeDocument/2006/relationships/slide" Target="slide21.xml"/><Relationship Id="rId37" Type="http://schemas.openxmlformats.org/officeDocument/2006/relationships/slide" Target="slide21.xml"/><Relationship Id="rId38" Type="http://schemas.openxmlformats.org/officeDocument/2006/relationships/slide" Target="slide22.xml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metry – Chapter 7 Review G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 by:  Ms. H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nd the midpoint between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–1, 2) and (3, –6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, –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066680" y="228600"/>
            <a:ext cx="7162920" cy="461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990720" y="1447920"/>
            <a:ext cx="7086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base of a 12-foot ladder is six feet from the wall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high on the wall does the ladder tou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http://textbooks.cpm.org/images/ccg/checkpoints/CP7/CCG_check7an17.png"/>
          <p:cNvPicPr/>
          <p:nvPr/>
        </p:nvPicPr>
        <p:blipFill>
          <a:blip r:embed="rId1"/>
          <a:stretch/>
        </p:blipFill>
        <p:spPr>
          <a:xfrm>
            <a:off x="3251160" y="200160"/>
            <a:ext cx="193032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8 in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295280" y="16765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"/>
          <p:cNvPicPr/>
          <p:nvPr/>
        </p:nvPicPr>
        <p:blipFill>
          <a:blip r:embed="rId1"/>
          <a:stretch/>
        </p:blipFill>
        <p:spPr>
          <a:xfrm>
            <a:off x="1295280" y="1562040"/>
            <a:ext cx="56390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1295280" y="16765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for 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1"/>
          <a:stretch/>
        </p:blipFill>
        <p:spPr>
          <a:xfrm>
            <a:off x="3200400" y="1143000"/>
            <a:ext cx="4795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990720" y="1414440"/>
            <a:ext cx="70102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ot the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(–3, –1), B(1, –4), C(5, –1), &amp; D(1,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shape is ABCD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stify your answer using coordinate geome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152280" y="152280"/>
            <a:ext cx="701064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All lengths are  5 units. Therefore, si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Times New Roman"/>
              </a:rPr>
              <a:t>all four sides have the same length, the figure is a rho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1" descr=""/>
          <p:cNvPicPr/>
          <p:nvPr/>
        </p:nvPicPr>
        <p:blipFill>
          <a:blip r:embed="rId1"/>
          <a:stretch/>
        </p:blipFill>
        <p:spPr>
          <a:xfrm>
            <a:off x="7058160" y="-76320"/>
            <a:ext cx="18856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area and perime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the composite shap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= .5(10)(12)+ 10(18)=240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; Perimeter = 72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1746360" y="2362320"/>
            <a:ext cx="5340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10666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value of x, y, and m&lt;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= 36; y = 55; m&lt;D =10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3962520" cy="32767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"/>
          <p:cNvSpPr/>
          <p:nvPr/>
        </p:nvSpPr>
        <p:spPr>
          <a:xfrm>
            <a:off x="4987800" y="273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x+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9"/>
          <p:cNvSpPr/>
          <p:nvPr/>
        </p:nvSpPr>
        <p:spPr>
          <a:xfrm>
            <a:off x="3324240" y="2736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-3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Box 10"/>
          <p:cNvSpPr/>
          <p:nvPr/>
        </p:nvSpPr>
        <p:spPr>
          <a:xfrm>
            <a:off x="4173480" y="3886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y-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4208400" y="2133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5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10666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1295280" y="16765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fo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9" descr=""/>
          <p:cNvPicPr/>
          <p:nvPr/>
        </p:nvPicPr>
        <p:blipFill>
          <a:blip r:embed="rId1"/>
          <a:stretch/>
        </p:blipFill>
        <p:spPr>
          <a:xfrm>
            <a:off x="3429000" y="1486080"/>
            <a:ext cx="44863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106668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996840" y="228600"/>
            <a:ext cx="7162920" cy="461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1143000" y="1447920"/>
            <a:ext cx="701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, 4),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, 6),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, 1), and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−1, −1).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a rhombus?  Show how you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2895840" y="228960"/>
            <a:ext cx="56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, each side has the same length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s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3" descr="http://textbooks.cpm.org/images/answers/gc/GC7.3.2/GC_7.3.2_7-110a_1.gif"/>
          <p:cNvPicPr/>
          <p:nvPr/>
        </p:nvPicPr>
        <p:blipFill>
          <a:blip r:embed="rId1"/>
          <a:stretch/>
        </p:blipFill>
        <p:spPr>
          <a:xfrm>
            <a:off x="5375160" y="334800"/>
            <a:ext cx="3621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0.5 in. or 49.2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1371600" y="2057400"/>
            <a:ext cx="647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field High School’s flagpole is 15 feet high. Using a clinometer, Tamara measures and angle of 11.3º to the top of the pole. Tamara is 62 inches tall. Draw &amp; label a diagram, then determine how far from the flagpole is Tamara stan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228600" y="380880"/>
            <a:ext cx="160020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i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2362320" y="380880"/>
            <a:ext cx="1752480" cy="3682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adrilater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876920" y="380880"/>
            <a:ext cx="1600200" cy="6426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gle Relationsh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7010280" y="380880"/>
            <a:ext cx="1752840" cy="6426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ordinate Geome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5 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257480" y="14508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ea of the rectang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9" descr=""/>
          <p:cNvPicPr/>
          <p:nvPr/>
        </p:nvPicPr>
        <p:blipFill>
          <a:blip r:embed="rId1"/>
          <a:stretch/>
        </p:blipFill>
        <p:spPr>
          <a:xfrm>
            <a:off x="2209680" y="1908000"/>
            <a:ext cx="511668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1295280" y="16765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for 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9" descr=""/>
          <p:cNvPicPr/>
          <p:nvPr/>
        </p:nvPicPr>
        <p:blipFill>
          <a:blip r:embed="rId1"/>
          <a:stretch/>
        </p:blipFill>
        <p:spPr>
          <a:xfrm>
            <a:off x="3352680" y="1523880"/>
            <a:ext cx="47246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838080" y="1143000"/>
            <a:ext cx="777240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1143000" y="30492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drilateral, not a parallelogram since opposite sides are not /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879480" y="1266840"/>
            <a:ext cx="784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ot the poin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(–4, 1), B(1, 3), C(8, –1), and D(4, –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2286000" y="282888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hape is ABCD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ify your answer using coordinate geome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1" descr=""/>
          <p:cNvPicPr/>
          <p:nvPr/>
        </p:nvPicPr>
        <p:blipFill>
          <a:blip r:embed="rId1"/>
          <a:stretch/>
        </p:blipFill>
        <p:spPr>
          <a:xfrm>
            <a:off x="324000" y="2550960"/>
            <a:ext cx="2090520" cy="2430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"/>
          <p:cNvPicPr/>
          <p:nvPr/>
        </p:nvPicPr>
        <p:blipFill>
          <a:blip r:embed="rId2"/>
          <a:stretch/>
        </p:blipFill>
        <p:spPr>
          <a:xfrm>
            <a:off x="6783480" y="3009960"/>
            <a:ext cx="197316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olve for 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219320" y="228600"/>
            <a:ext cx="7086600" cy="461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8" descr=""/>
          <p:cNvPicPr/>
          <p:nvPr/>
        </p:nvPicPr>
        <p:blipFill>
          <a:blip r:embed="rId2"/>
          <a:stretch/>
        </p:blipFill>
        <p:spPr>
          <a:xfrm>
            <a:off x="2666880" y="2362320"/>
            <a:ext cx="4724640" cy="22622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"/>
          <p:cNvSpPr/>
          <p:nvPr/>
        </p:nvSpPr>
        <p:spPr>
          <a:xfrm>
            <a:off x="3589200" y="2142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≈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.7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º, 12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9" descr=""/>
          <p:cNvPicPr/>
          <p:nvPr/>
        </p:nvPicPr>
        <p:blipFill>
          <a:blip r:embed="rId2"/>
          <a:stretch/>
        </p:blipFill>
        <p:spPr>
          <a:xfrm>
            <a:off x="2095560" y="1600200"/>
            <a:ext cx="4952880" cy="28782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"/>
          <p:cNvSpPr/>
          <p:nvPr/>
        </p:nvSpPr>
        <p:spPr>
          <a:xfrm>
            <a:off x="1066680" y="955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∠CDA = 60º, find m∠CBA and m∠B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1295280" y="16765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up an equations and solve for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2819520" y="2286000"/>
            <a:ext cx="4038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990720" y="1147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295280" y="16765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1143000" y="1346040"/>
            <a:ext cx="6858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length of the hypotenuse of the right triangle with coordinates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−2, −1), (−6, 5), and (4, 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2"/>
          <a:stretch/>
        </p:blipFill>
        <p:spPr>
          <a:xfrm>
            <a:off x="3335400" y="228600"/>
            <a:ext cx="17114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6"/>
          <p:cNvSpPr/>
          <p:nvPr/>
        </p:nvSpPr>
        <p:spPr>
          <a:xfrm>
            <a:off x="950760" y="16002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23;  y = 32 deg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2"/>
          <a:stretch/>
        </p:blipFill>
        <p:spPr>
          <a:xfrm>
            <a:off x="3203640" y="2362320"/>
            <a:ext cx="3273480" cy="217332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1219320" y="18288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value of x and 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5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1295280" y="1676520"/>
            <a:ext cx="6477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∠XWZ = 95º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m∠XY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9" descr=""/>
          <p:cNvPicPr/>
          <p:nvPr/>
        </p:nvPicPr>
        <p:blipFill>
          <a:blip r:embed="rId2"/>
          <a:stretch/>
        </p:blipFill>
        <p:spPr>
          <a:xfrm>
            <a:off x="4038480" y="1670040"/>
            <a:ext cx="381024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838080" y="228600"/>
            <a:ext cx="7239240" cy="461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295280" y="16765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for x &amp;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2"/>
          <a:stretch/>
        </p:blipFill>
        <p:spPr>
          <a:xfrm>
            <a:off x="3714840" y="1538280"/>
            <a:ext cx="3500280" cy="2581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"/>
          <p:cNvPicPr/>
          <p:nvPr/>
        </p:nvPicPr>
        <p:blipFill>
          <a:blip r:embed="rId3"/>
          <a:stretch/>
        </p:blipFill>
        <p:spPr>
          <a:xfrm>
            <a:off x="3086280" y="44280"/>
            <a:ext cx="220968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Sara Hunt</cp:lastModifiedBy>
  <cp:lastPrinted>2001-01-31T16:21:13Z</cp:lastPrinted>
  <dcterms:modified xsi:type="dcterms:W3CDTF">2014-04-30T14:30:33Z</dcterms:modified>
  <cp:revision>111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